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46EA-0996-44A6-9B2C-644163432D06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201C-0CBE-43AF-A306-F41DA1D217C5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FF93-1989-4AA4-8AB2-DF3B55C25C30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53D Interoperability Solutions in Earth Science Data Systems: 1:55-2:10 pm What if Finding Data was as Easy as Subscribing to the New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ACF4-8458-4531-A0BB-12F2E1E8062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-28800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3880" indent="-23976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960120" indent="-1918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343880" indent="-1918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728000" indent="-191880">
              <a:buClr>
                <a:srgbClr val="60606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728000" indent="-191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728000" indent="-191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-3016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760" indent="-2512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05840" indent="-2008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07960" indent="-2008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10440" indent="-200880">
              <a:buClr>
                <a:srgbClr val="60606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10440" indent="-200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10440" indent="-200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-47880">
              <a:buClr>
                <a:srgbClr val="999999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103680" indent="-39960">
              <a:buClr>
                <a:srgbClr val="999999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159840" indent="-31680">
              <a:buClr>
                <a:srgbClr val="999999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223920" indent="-31680">
              <a:buClr>
                <a:srgbClr val="999999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288000" indent="-31680">
              <a:buClr>
                <a:srgbClr val="999999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288000" indent="-316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288000" indent="-316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137880" y="299880"/>
            <a:ext cx="73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Advertising your data; Presented 6 Dec 2011, AGU Data Management 101 for the Earth Scientist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Advertising your data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919476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lecia Aleman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</a:rPr>
              <a:t>1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, Ruth Duerr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</a:rPr>
              <a:t>2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1 National Aeronautics and Space Administration (NASA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2 National Snow and Ice Data Center, University of Colorado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58720" y="533520"/>
            <a:ext cx="1186200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ow to cast your data collection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9" name="Rectangle 12"/>
          <p:cNvSpPr/>
          <p:nvPr/>
        </p:nvSpPr>
        <p:spPr>
          <a:xfrm>
            <a:off x="406440" y="3124080"/>
            <a:ext cx="63244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43040" indent="-743040">
              <a:buClr>
                <a:srgbClr val="000000"/>
              </a:buClr>
              <a:buFont typeface="Helvetica Neue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Light"/>
              </a:rPr>
              <a:t>Fill out a web form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743040" indent="-743040">
              <a:buClr>
                <a:srgbClr val="000000"/>
              </a:buClr>
              <a:buFont typeface="Helvetica Neue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Light"/>
              </a:rPr>
              <a:t>Save it to your websit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743040" indent="-743040">
              <a:buClr>
                <a:srgbClr val="000000"/>
              </a:buClr>
              <a:buFont typeface="Helvetica Neue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Light"/>
              </a:rPr>
              <a:t>Add its link to your sit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80" name="Picture 11" descr=""/>
          <p:cNvPicPr/>
          <p:nvPr/>
        </p:nvPicPr>
        <p:blipFill>
          <a:blip r:embed="rId1"/>
          <a:stretch/>
        </p:blipFill>
        <p:spPr>
          <a:xfrm>
            <a:off x="6654960" y="2666880"/>
            <a:ext cx="5949720" cy="5932440"/>
          </a:xfrm>
          <a:prstGeom prst="rect">
            <a:avLst/>
          </a:prstGeom>
          <a:ln w="0">
            <a:noFill/>
          </a:ln>
        </p:spPr>
      </p:pic>
      <p:sp>
        <p:nvSpPr>
          <p:cNvPr id="781" name="TextBox 7"/>
          <p:cNvSpPr/>
          <p:nvPr/>
        </p:nvSpPr>
        <p:spPr>
          <a:xfrm>
            <a:off x="1063440" y="8634240"/>
            <a:ext cx="10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http://nsidc.org/libre/share/collectioncaster.html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ederal Geographic Data Committee (FGDC). Geospatial Metadata. http://www.fgdc.gov/metadata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ational Aeronautics and Space Administration (NASA). 2010. “Directory Interchange Format (DIF) Writer's Guide”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Global Change Master Directory. http://gcmd.nasa.gov/User/difguide/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ational Aeronautics and Space Administration (NASA). Global Change Master Directory (GCMD). http://gcmd.nasa.gov/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ational Aeronautics and Space Administration (NASA). docBUILDER: http://gcmd.nasa.gov/User/authoring.html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aylor, Mark. 2000. “Developing Spatial Data Infrastructures – The SDI Cookbook”. Global Spatial Data Infrastructure Association. http://www.gsdi.org/pubs/cookbook/chapter03a.html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34680" y="60912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Three Discovery Scenario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34680" y="236232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You’ve deposited your data in an archive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dvertising your data is their problem (mostly)!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dvertising your data in a directory or regist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dvertising your data on the web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34680" y="60912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iscovery Level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34680" y="236232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data set description (metadata) that provides the essential information to determine if a particular data set meets the users’ need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veys to the user the nature and content of the data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tains a set of quantitative and/or qualitative measurements and distinguishes that set from other similar measurement set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scovery level metadata will usually contain less information than other types of metadata (i.e. use metadata, granule metadata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controlled keyword vocabulary is essential to provide normalized discovery of data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tegories of Discovery Level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8" name="Content Placeholder 4" descr=""/>
          <p:cNvPicPr/>
          <p:nvPr/>
        </p:nvPicPr>
        <p:blipFill>
          <a:blip r:embed="rId1"/>
          <a:stretch/>
        </p:blipFill>
        <p:spPr>
          <a:xfrm>
            <a:off x="500040" y="2279520"/>
            <a:ext cx="1197288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xamples of Discovery Level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0" y="2361960"/>
            <a:ext cx="6006960" cy="57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06060"/>
                </a:solidFill>
                <a:latin typeface="Helvetica Neue"/>
              </a:rPr>
              <a:t>Directory Interchange Format (DIF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1" name="Picture 2" descr=""/>
          <p:cNvPicPr/>
          <p:nvPr/>
        </p:nvPicPr>
        <p:blipFill>
          <a:blip r:embed="rId1"/>
          <a:srcRect l="36351" t="0" r="27460" b="2477"/>
          <a:stretch/>
        </p:blipFill>
        <p:spPr>
          <a:xfrm>
            <a:off x="635040" y="2895480"/>
            <a:ext cx="5334120" cy="647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52" name="Picture 3" descr=""/>
          <p:cNvPicPr/>
          <p:nvPr/>
        </p:nvPicPr>
        <p:blipFill>
          <a:blip r:embed="rId2"/>
          <a:srcRect l="36351" t="5551" r="27460" b="2477"/>
          <a:stretch/>
        </p:blipFill>
        <p:spPr>
          <a:xfrm>
            <a:off x="6883560" y="2895480"/>
            <a:ext cx="5333760" cy="647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53" name="Content Placeholder 2"/>
          <p:cNvSpPr/>
          <p:nvPr/>
        </p:nvSpPr>
        <p:spPr>
          <a:xfrm>
            <a:off x="6591240" y="2362320"/>
            <a:ext cx="600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06060"/>
                </a:solidFill>
                <a:latin typeface="Helvetica Neue"/>
              </a:rPr>
              <a:t>Federal Geographic Data Committee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Global Change Master Directory (GCMD)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GCMD enables the scientific community to discover and access over 25,000 Earth science data sets and servic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GCMD uses the Directory Interchange Format (DIF), a  discovery level metadata standard that is used by NASA and the Committee on Earth Observation Satellites (CEOS)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DIF contains several fields, allowing users to easily find and determine the data set and/or service that is useful to their need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ublishing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35040" y="2362320"/>
            <a:ext cx="120268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Arial"/>
                <a:ea typeface="Arial"/>
              </a:rPr>
              <a:t>docBUILDER is a free, online tool for creating, updating, and publishing metadata entries to the GCMD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Arial"/>
                <a:ea typeface="Arial"/>
              </a:rPr>
              <a:t>Provides a “visual” check-list of required, highly recommended, and recommended fields to populate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Arial"/>
                <a:ea typeface="Arial"/>
              </a:rPr>
              <a:t>Performs validation (checks controlled fields and syntax)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Arial"/>
                <a:ea typeface="Arial"/>
              </a:rPr>
              <a:t>Allows for templates when creating entries with repeatable information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Arial"/>
                <a:ea typeface="Arial"/>
              </a:rPr>
              <a:t>Users can register for an account at https://users.eosdis.nasa.gov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Arial"/>
                <a:ea typeface="Arial"/>
              </a:rPr>
              <a:t>Users can access docBUILDER at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ttp://gcmd.nasa.gov/User/authoring.htm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7960" y="584280"/>
            <a:ext cx="1186200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Using docBUILDER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59" name="Picture 2" descr=""/>
          <p:cNvPicPr/>
          <p:nvPr/>
        </p:nvPicPr>
        <p:blipFill>
          <a:blip r:embed="rId1"/>
          <a:srcRect l="9691" t="23962" r="11420" b="24427"/>
          <a:stretch/>
        </p:blipFill>
        <p:spPr>
          <a:xfrm>
            <a:off x="2387520" y="3505320"/>
            <a:ext cx="9296640" cy="5410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60" name="TextBox 5"/>
          <p:cNvSpPr/>
          <p:nvPr/>
        </p:nvSpPr>
        <p:spPr>
          <a:xfrm>
            <a:off x="330120" y="434340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Field is checked when complete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TextBox 6"/>
          <p:cNvSpPr/>
          <p:nvPr/>
        </p:nvSpPr>
        <p:spPr>
          <a:xfrm>
            <a:off x="3606840" y="2362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Validate Your  Document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and/or Get Help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TextBox 7"/>
          <p:cNvSpPr/>
          <p:nvPr/>
        </p:nvSpPr>
        <p:spPr>
          <a:xfrm>
            <a:off x="9931320" y="21337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Helvetica Neue Light"/>
              </a:rPr>
              <a:t>Submit Your Document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Helvetica Neue Light"/>
              </a:rPr>
              <a:t>to the GCM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TextBox 8"/>
          <p:cNvSpPr/>
          <p:nvPr/>
        </p:nvSpPr>
        <p:spPr>
          <a:xfrm>
            <a:off x="4978440" y="92203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Helvetica Neue Light"/>
              </a:rPr>
              <a:t>Populate Metadata Fields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grpSp>
        <p:nvGrpSpPr>
          <p:cNvPr id="764" name="Group 12"/>
          <p:cNvGrpSpPr/>
          <p:nvPr/>
        </p:nvGrpSpPr>
        <p:grpSpPr>
          <a:xfrm>
            <a:off x="2463840" y="7696080"/>
            <a:ext cx="8305920" cy="1447920"/>
            <a:chOff x="2463840" y="7696080"/>
            <a:chExt cx="8305920" cy="1447920"/>
          </a:xfrm>
        </p:grpSpPr>
        <p:sp>
          <p:nvSpPr>
            <p:cNvPr id="765" name="Right Brace 13"/>
            <p:cNvSpPr/>
            <p:nvPr/>
          </p:nvSpPr>
          <p:spPr>
            <a:xfrm rot="5400000">
              <a:off x="6235560" y="3924000"/>
              <a:ext cx="762120" cy="8305920"/>
            </a:xfrm>
            <a:custGeom>
              <a:avLst/>
              <a:gdLst>
                <a:gd name="textAreaLeft" fmla="*/ 0 w 762120"/>
                <a:gd name="textAreaRight" fmla="*/ 275040 w 762120"/>
                <a:gd name="textAreaTop" fmla="*/ 24840 h 8305920"/>
                <a:gd name="textAreaBottom" fmla="*/ 8281080 h 830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04"/>
                    <a:pt x="10800" y="207"/>
                  </a:cubicBezTo>
                  <a:lnTo>
                    <a:pt x="10800" y="10500"/>
                  </a:lnTo>
                  <a:cubicBezTo>
                    <a:pt x="10800" y="10604"/>
                    <a:pt x="16200" y="10707"/>
                    <a:pt x="21600" y="10707"/>
                  </a:cubicBezTo>
                  <a:cubicBezTo>
                    <a:pt x="16200" y="10707"/>
                    <a:pt x="10800" y="10811"/>
                    <a:pt x="10800" y="10914"/>
                  </a:cubicBezTo>
                  <a:lnTo>
                    <a:pt x="10800" y="21393"/>
                  </a:lnTo>
                  <a:cubicBezTo>
                    <a:pt x="10800" y="21497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766" name="Straight Connector 14"/>
            <p:cNvSpPr/>
            <p:nvPr/>
          </p:nvSpPr>
          <p:spPr>
            <a:xfrm>
              <a:off x="6664320" y="8381880"/>
              <a:ext cx="0" cy="76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cxnSp>
        <p:nvCxnSpPr>
          <p:cNvPr id="767" name="Straight Arrow Connector 16"/>
          <p:cNvCxnSpPr/>
          <p:nvPr/>
        </p:nvCxnSpPr>
        <p:spPr>
          <a:xfrm flipV="1">
            <a:off x="1625760" y="4494960"/>
            <a:ext cx="762480" cy="3056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8" name="Straight Arrow Connector 30"/>
          <p:cNvCxnSpPr/>
          <p:nvPr/>
        </p:nvCxnSpPr>
        <p:spPr>
          <a:xfrm flipH="1">
            <a:off x="4063320" y="2971440"/>
            <a:ext cx="610200" cy="686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9" name="Straight Arrow Connector 33"/>
          <p:cNvCxnSpPr/>
          <p:nvPr/>
        </p:nvCxnSpPr>
        <p:spPr>
          <a:xfrm flipH="1">
            <a:off x="10769040" y="3047760"/>
            <a:ext cx="229320" cy="5338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ublishing metadata to the web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635040" y="2362320"/>
            <a:ext cx="120268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grpSp>
        <p:nvGrpSpPr>
          <p:cNvPr id="772" name="Group 17"/>
          <p:cNvGrpSpPr/>
          <p:nvPr/>
        </p:nvGrpSpPr>
        <p:grpSpPr>
          <a:xfrm>
            <a:off x="1409760" y="2451240"/>
            <a:ext cx="10085400" cy="6718320"/>
            <a:chOff x="1409760" y="2451240"/>
            <a:chExt cx="10085400" cy="6718320"/>
          </a:xfrm>
        </p:grpSpPr>
        <p:pic>
          <p:nvPicPr>
            <p:cNvPr id="773" name="Picture 11" descr=""/>
            <p:cNvPicPr/>
            <p:nvPr/>
          </p:nvPicPr>
          <p:blipFill>
            <a:blip r:embed="rId1"/>
            <a:stretch/>
          </p:blipFill>
          <p:spPr>
            <a:xfrm>
              <a:off x="1409760" y="2451240"/>
              <a:ext cx="10085400" cy="671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Rectangle 12"/>
            <p:cNvSpPr/>
            <p:nvPr/>
          </p:nvSpPr>
          <p:spPr>
            <a:xfrm>
              <a:off x="5877000" y="7093080"/>
              <a:ext cx="1150920" cy="139680"/>
            </a:xfrm>
            <a:prstGeom prst="rect">
              <a:avLst/>
            </a:prstGeom>
            <a:solidFill>
              <a:srgbClr val="133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myData News.org</a:t>
              </a:r>
              <a:endParaRPr b="0" lang="en-US" sz="9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775" name="Rectangle 13"/>
            <p:cNvSpPr/>
            <p:nvPr/>
          </p:nvSpPr>
          <p:spPr>
            <a:xfrm>
              <a:off x="6058080" y="7283520"/>
              <a:ext cx="4821120" cy="88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776" name="Rectangle 14"/>
            <p:cNvSpPr/>
            <p:nvPr/>
          </p:nvSpPr>
          <p:spPr>
            <a:xfrm>
              <a:off x="6058080" y="7308720"/>
              <a:ext cx="49021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  <a:ea typeface="Arial"/>
                </a:rPr>
                <a:t>Greenland 1 km DEM has been published</a:t>
              </a:r>
              <a:endParaRPr b="0" lang="en-US" sz="10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Arial"/>
                  <a:ea typeface="Arial"/>
                </a:rPr>
                <a:t>A Digital Elevation Model (DEM) of Greenland acquired by A. Researcher is available in binary format at a 1 KM grid spacing in a polar stereographic projection ... </a:t>
              </a: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  <a:ea typeface="Arial"/>
                </a:rPr>
                <a:t>more</a:t>
              </a:r>
              <a:endParaRPr b="0" lang="en-US" sz="10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  <a:ea typeface="Arial"/>
                </a:rPr>
                <a:t>Greenland Ice Sheet Melt Characteristics Data updated</a:t>
              </a:r>
              <a:endParaRPr b="0" lang="en-US" sz="10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  <a:ea typeface="Arial"/>
                </a:rPr>
                <a:t>Greenland Ice Sheet Melt Characteristics now available via OpenSearch API</a:t>
              </a:r>
              <a:endParaRPr b="0" lang="en-US" sz="1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pic>
        <p:nvPicPr>
          <p:cNvPr id="777" name="Picture 16" descr=""/>
          <p:cNvPicPr/>
          <p:nvPr/>
        </p:nvPicPr>
        <p:blipFill>
          <a:blip r:embed="rId2"/>
          <a:srcRect l="1315" t="0" r="1315" b="0"/>
          <a:stretch/>
        </p:blipFill>
        <p:spPr>
          <a:xfrm>
            <a:off x="203040" y="3759120"/>
            <a:ext cx="10401480" cy="2552760"/>
          </a:xfrm>
          <a:prstGeom prst="rect">
            <a:avLst/>
          </a:prstGeom>
          <a:ln w="0">
            <a:noFill/>
          </a:ln>
          <a:effectLst>
            <a:outerShdw dist="127080" dir="540000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23:31:31Z</dcterms:created>
  <dc:creator>Stevens, Tyler B. (GSFC-610.2)[Affiliate]</dc:creator>
  <dc:description/>
  <dc:language>en-US</dc:language>
  <cp:lastModifiedBy>Carol Meyer</cp:lastModifiedBy>
  <dcterms:modified xsi:type="dcterms:W3CDTF">2011-12-06T02:27:08Z</dcterms:modified>
  <cp:revision>87</cp:revision>
  <dc:subject/>
  <dc:title>ESIP Federation 101</dc:title>
</cp:coreProperties>
</file>